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AF6-DAA2-4F26-83ED-1C8A864A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A58-4C56-47D3-A8B3-0E673975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09D-0836-496E-B07F-5EEED8CA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B70-D009-447E-A3D2-666D900B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D1F-C782-446B-803A-006F1530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538-E2B6-4141-8680-FFA28686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2D9-7802-424E-93A9-2D91C8CC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64F-50C4-46CD-ADA0-D9954B2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80A-B35E-4A3E-B129-59DD18C9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492-7065-4580-80E9-ED843D1C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388-3D53-491F-8A22-C6095AFE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271-3A5B-42C4-B14D-70E59BA7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259B-1FCA-48A0-8077-6B3532F8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61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lucose solution- concentration of [20 g/L ] this is our carbon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h level-7.0 (range of 6.6-7.2) level kept by automatic addition of 2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02-by air compressor, then cooled and filtered then pumped into fermentor, must be at least 10% of atmospheric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alinity- concentration of [ 17.8 g/L ] will use instant ocean purchased from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emperature- 27C maintained by coils inside and outside of fermentor (range 20-30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Yeast Extract- [ 2 g/L ] purchased from Ethanol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 is finding out if we can use whole yeast from Ethanol plant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olysaccharide solvent- to keep viscosity of broth at a minimum especially during stationary phase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purchase this from Glucan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1:26:55Z</dcterms:created>
  <dc:creator>xplabpc</dc:creator>
  <dc:description/>
  <dc:language>en-US</dc:language>
  <cp:lastModifiedBy>xplabpc</cp:lastModifiedBy>
  <dcterms:modified xsi:type="dcterms:W3CDTF">2010-02-05T23:12:04Z</dcterms:modified>
  <cp:revision>2</cp:revision>
  <dc:subject/>
  <dc:title>Fermentation Medium</dc:title>
</cp:coreProperties>
</file>